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F0457-0485-4226-8FA0-D47AB574D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5E1BE-FD45-4FF7-B66E-DDA180B76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8988E-E12D-4FEE-8888-1B7446723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30268-7750-4E75-AEBC-0FC63278A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85876-737C-457A-ABB0-E41C17407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5C814-32E0-4B18-B657-D6A7A8830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4E35D-5B53-43A3-A059-C22814F2E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73C38-97ED-479A-AC1F-064D8B1F2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52E61-7475-4AED-A7B9-CD18ED8DA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0001F-D040-4DF1-8108-08DF0E61D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59ECA-6178-40F6-872B-C1F41F6F4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33FC6-4D22-44F4-A3FD-A4EFE85DA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3EF62-FBFA-4BBC-A5AF-A8CFC6282E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-4  Note Guide Solids, liquids and gases, oh my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914400" y="1371600"/>
            <a:ext cx="723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states of matter – described based on whether shapes and volumes are fixed or vari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990720" y="213372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 Solids = definite shape and volu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2666880"/>
            <a:ext cx="67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rder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rangement of particles at atomic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solid" descr=""/>
          <p:cNvPicPr/>
          <p:nvPr/>
        </p:nvPicPr>
        <p:blipFill>
          <a:blip r:embed="rId1"/>
          <a:stretch/>
        </p:blipFill>
        <p:spPr>
          <a:xfrm>
            <a:off x="1066680" y="3200400"/>
            <a:ext cx="2438640" cy="17715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809880" y="3200400"/>
            <a:ext cx="472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icles very closely pac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 Liquids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finite volume, but no definite shap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liquid" descr=""/>
          <p:cNvPicPr/>
          <p:nvPr/>
        </p:nvPicPr>
        <p:blipFill>
          <a:blip r:embed="rId1"/>
          <a:stretch/>
        </p:blipFill>
        <p:spPr>
          <a:xfrm>
            <a:off x="1143000" y="1600200"/>
            <a:ext cx="2590920" cy="13809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038480" y="152388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Take shape of container it is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114800" y="2057400"/>
            <a:ext cx="419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Arrangement of particles mor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95280" y="3200400"/>
            <a:ext cx="723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particles packed, but somewhat loo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 Gases – no definite shape or volu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gas" descr=""/>
          <p:cNvPicPr/>
          <p:nvPr/>
        </p:nvPicPr>
        <p:blipFill>
          <a:blip r:embed="rId1"/>
          <a:stretch/>
        </p:blipFill>
        <p:spPr>
          <a:xfrm>
            <a:off x="1066680" y="1143000"/>
            <a:ext cx="2274840" cy="19652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581280" y="121932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takes shape of contai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05320" y="167652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arrangement of particles not in regular pattern; very rand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219320" y="320040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particles very loo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62120" y="365760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. Plasma –exists at extremely high temperatures (on stars, su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62120" y="441972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. Bose-Einstein condensate –found at temps near –273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219320" y="480060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groups of atoms act as a single partic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netic Theor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066680" y="129528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ALL moving objects have kinetic energ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523880" y="167652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netic energy = energy of motion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066680" y="2057400"/>
            <a:ext cx="7162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, kinetic theory states that all particles of matter are in CONSTANT mo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281952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havior of the 3 main states of ma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990720" y="327672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Solids = have definite shape and volume becaus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icles vibrate around fixed lo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295280" y="403848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strong attractions of the atoms within keep fix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990720" y="4419720"/>
            <a:ext cx="769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Liquids = take shape of container because particles flow to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w locations.  Volume remains constant because of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forces of attraction keep particles toget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Gases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orces of attraction in gases are small, but STILL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143000" y="160020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particles collide with each other,but can’t get away total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3T20:03:35Z</dcterms:created>
  <dc:creator>Farwell Area Schools</dc:creator>
  <dc:description/>
  <dc:language>en-US</dc:language>
  <cp:lastModifiedBy>Farwell Area Schools</cp:lastModifiedBy>
  <dcterms:modified xsi:type="dcterms:W3CDTF">2009-01-21T18:10:03Z</dcterms:modified>
  <cp:revision>5</cp:revision>
  <dc:subject/>
  <dc:title>3-4  Note Guide Solids, liquids and gases, oh my!</dc:title>
</cp:coreProperties>
</file>